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45220"/>
        <c:axId val="99909329"/>
      </c:barChart>
      <c:catAx>
        <c:axId val="70245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09329"/>
        <c:crosses val="autoZero"/>
        <c:auto val="1"/>
        <c:lblAlgn val="ctr"/>
        <c:lblOffset val="100"/>
        <c:noMultiLvlLbl val="0"/>
      </c:catAx>
      <c:valAx>
        <c:axId val="99909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45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AF8-9658-4CA1-A256-4819244A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7A4-014E-4DBE-8A05-C3E50424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F1F-C2A3-4293-93B1-808A529A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006-E3A5-49C2-BB30-0F16D7B5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183-1B4F-4143-8EE9-F70395BD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7B7-0CF9-4B61-BF6D-F5546172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AED-B535-46EB-AFE8-F91F2A9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C1F-5C2D-4B56-A619-397F329F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BAF-1FAB-438F-8C7C-2216E79A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373-BB2D-4A41-A376-477D29B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68E-975C-4056-BED9-C7C9D3B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322-8AA5-4D4A-BC0E-B12D4C4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016DE-D547-4C15-887E-E6260EE53E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