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916730"/>
        <c:axId val="40742204"/>
      </c:barChart>
      <c:catAx>
        <c:axId val="969167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42204"/>
        <c:crosses val="autoZero"/>
        <c:auto val="1"/>
        <c:lblAlgn val="ctr"/>
        <c:lblOffset val="100"/>
        <c:noMultiLvlLbl val="0"/>
      </c:catAx>
      <c:valAx>
        <c:axId val="407422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167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553B-D802-47C9-9FB7-0692DF1A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3F4C-1419-4ECA-9191-EBE2137A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D6E5-248B-4ED3-A09F-1D82A143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2E17-3B0C-402C-AB76-9DF7D5FC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AE3C-EAEB-469E-A271-87C7C84D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2B85-2015-4A8B-BE42-F10419E0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6998-673B-42A7-865E-0F283123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AE75-B50A-431F-B963-14718289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D6F6-AEDE-49C2-87E2-5396E9C5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6B73-5532-4B98-92C8-71999B97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846F-8B57-4694-A561-BA51C894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E5E2-AE6B-467A-BC3B-B4E76285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B3183-012A-4F2F-857B-4FBEA5E898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