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01743"/>
        <c:axId val="92397224"/>
      </c:barChart>
      <c:catAx>
        <c:axId val="61301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97224"/>
        <c:crosses val="autoZero"/>
        <c:auto val="1"/>
        <c:lblAlgn val="ctr"/>
        <c:lblOffset val="100"/>
        <c:noMultiLvlLbl val="0"/>
      </c:catAx>
      <c:valAx>
        <c:axId val="92397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01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EBF-57D0-4E40-97E5-EADFCF37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15B-9969-4E15-A42B-F61F6981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DC6-3F4C-486A-96E1-5C926A8C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474-ECFF-47E4-B244-C78A6FE3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FA5-133C-409B-ADA3-682736EC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233-3026-42F0-847F-F3C6C4A2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251-9A45-4909-AB57-108AA27D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B03-6B45-4776-8493-B2A4B61B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0F4-113D-4B37-9980-44E529E9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5CF-AF93-4D66-B7A6-7A897F9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4E5-7C38-456D-9211-562659F8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5EB-BAC9-4B1F-97D4-E05A03DF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88FD5-AF1C-4F52-8938-A2AB46A644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