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1863"/>
        <c:axId val="11676055"/>
      </c:barChart>
      <c:catAx>
        <c:axId val="6751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6055"/>
        <c:crosses val="autoZero"/>
        <c:auto val="1"/>
        <c:lblAlgn val="ctr"/>
        <c:lblOffset val="100"/>
        <c:noMultiLvlLbl val="0"/>
      </c:catAx>
      <c:valAx>
        <c:axId val="11676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1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F07-7B2B-4657-8FA4-F14F32E1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215-D2C7-4ED7-81D9-F2DBABB6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8EF-C9B9-4712-A9A2-8A20DBEA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970-0010-4443-A9F0-9EC3B65A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F00-8F4D-4B2F-90B3-B9E01A5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29B-CE63-4877-9F4D-758BDBE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BCE-F8DF-41B9-9302-1FBBC28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0B0-9CFF-4775-AFD9-B715D74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4C6-307F-40B0-9BEF-B0C6F58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5E0-C4B2-4393-AF39-B603D92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3A5-7FD5-489F-9711-8E61270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396-0B8D-43C9-A8AD-B4BF7D1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50C4C-C35C-4579-A0F8-274A731B9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